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15333B-549E-4A6D-8959-E3A10375D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6E35B2-028A-4B03-B693-F9D987B0C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0B5CF0-DB61-47E9-B99C-451BD59D2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102D85-5780-4220-A324-2042E553D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35D01B-6F4F-4185-B17B-0FBED13DA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A69A1B-6700-4C19-82ED-4B05AEB22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8600A7-155A-4854-B955-9B103D275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F8F4FB-A20D-4F5F-AA2B-FDA4E29FA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45D0A1-040B-4693-9ED4-BB5A3C913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AEB1AF-8EA0-48D3-A41C-52157D793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BB8CB3-1797-4D08-8FB9-ADA39085D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B22B4D-8B8A-4F1D-B7B1-06CBC7FCF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c89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61EDF-614D-4DA0-B578-29CE35A97AC3}" type="slidenum">
              <a:rPr b="0" lang="ru-RU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fdcb7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fdcb7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675e47"/>
                </a:solidFill>
                <a:latin typeface="Times New Roman"/>
                <a:ea typeface="Times New Roman"/>
              </a:rPr>
              <a:t>Задание третье «Электрическая цепь»</a:t>
            </a:r>
            <a:br>
              <a:rPr sz="4600"/>
            </a:b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2f2b20"/>
                </a:solidFill>
                <a:latin typeface="Calibri"/>
              </a:rPr>
              <a:t>а) найти ошибку в схеме;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2b20"/>
                </a:solidFill>
                <a:latin typeface="Calibri"/>
              </a:rPr>
              <a:t>б) собрать электрическую цепь, измерить силу тока в цепи и напряжение на резисторе.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675e47"/>
                </a:solidFill>
                <a:latin typeface="Cambria"/>
              </a:rPr>
              <a:t>Ошибка в схеме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62" name="Объект 1" descr=""/>
          <p:cNvPicPr/>
          <p:nvPr/>
        </p:nvPicPr>
        <p:blipFill>
          <a:blip r:embed="rId1"/>
          <a:stretch/>
        </p:blipFill>
        <p:spPr>
          <a:xfrm>
            <a:off x="900000" y="1341360"/>
            <a:ext cx="7344000" cy="49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675e47"/>
                </a:solidFill>
                <a:latin typeface="Cambria"/>
              </a:rPr>
              <a:t>Ошибка в схеме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64" name="Объект 2" descr=""/>
          <p:cNvPicPr/>
          <p:nvPr/>
        </p:nvPicPr>
        <p:blipFill>
          <a:blip r:embed="rId1"/>
          <a:stretch/>
        </p:blipFill>
        <p:spPr>
          <a:xfrm>
            <a:off x="1332000" y="1700280"/>
            <a:ext cx="648000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675e47"/>
                </a:solidFill>
                <a:latin typeface="Cambria"/>
              </a:rPr>
              <a:t>«</a:t>
            </a:r>
            <a:r>
              <a:rPr b="1" lang="ru-RU" sz="4600" spc="-1" strike="noStrike">
                <a:solidFill>
                  <a:srgbClr val="675e47"/>
                </a:solidFill>
                <a:latin typeface="Times New Roman"/>
                <a:ea typeface="Times New Roman"/>
              </a:rPr>
              <a:t>Знаешь ли ты свой учебник физики?» </a:t>
            </a:r>
            <a:br>
              <a:rPr sz="4600"/>
            </a:b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106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f2b20"/>
                </a:solidFill>
                <a:latin typeface="Calibri"/>
              </a:rPr>
              <a:t>  </a:t>
            </a:r>
            <a:r>
              <a:rPr b="0" lang="ru-RU" sz="3200" spc="-1" strike="noStrike">
                <a:solidFill>
                  <a:srgbClr val="2f2b20"/>
                </a:solidFill>
                <a:latin typeface="Calibri"/>
              </a:rPr>
              <a:t>1.Кто автор учебника? 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marL="106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2b20"/>
                </a:solidFill>
                <a:latin typeface="Calibri"/>
              </a:rPr>
              <a:t>  </a:t>
            </a:r>
            <a:r>
              <a:rPr b="0" lang="ru-RU" sz="3200" spc="-1" strike="noStrike">
                <a:solidFill>
                  <a:srgbClr val="2f2b20"/>
                </a:solidFill>
                <a:latin typeface="Calibri"/>
              </a:rPr>
              <a:t>2.   Что изображено на обложке учебника?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marL="106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2b2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2f2b20"/>
                </a:solidFill>
                <a:latin typeface="Calibri"/>
              </a:rPr>
              <a:t>3.   Каково содержание форзацев учебника?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marL="106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2b20"/>
                </a:solidFill>
                <a:latin typeface="Calibri"/>
              </a:rPr>
              <a:t>   </a:t>
            </a:r>
            <a:r>
              <a:rPr b="0" lang="ru-RU" sz="3200" spc="-1" strike="noStrike">
                <a:solidFill>
                  <a:srgbClr val="2f2b20"/>
                </a:solidFill>
                <a:latin typeface="Calibri"/>
              </a:rPr>
              <a:t>4.   Какова структура учебника?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marL="106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2b20"/>
                </a:solidFill>
                <a:latin typeface="Calibri"/>
              </a:rPr>
              <a:t>   </a:t>
            </a:r>
            <a:r>
              <a:rPr b="0" lang="ru-RU" sz="3200" spc="-1" strike="noStrike">
                <a:solidFill>
                  <a:srgbClr val="2f2b20"/>
                </a:solidFill>
                <a:latin typeface="Calibri"/>
              </a:rPr>
              <a:t>5.  Сколько страниц в учебнике?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marL="106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2b2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2f2b20"/>
                </a:solidFill>
                <a:latin typeface="Calibri"/>
              </a:rPr>
              <a:t>Дополнительно, что можете сообщить про учебник физики 8 класса.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marL="106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675e47"/>
                </a:solidFill>
                <a:latin typeface="Times New Roman"/>
                <a:ea typeface="Times New Roman"/>
              </a:rPr>
              <a:t>«Загадки о физиках-учителях»</a:t>
            </a:r>
            <a:br>
              <a:rPr sz="4600"/>
            </a:b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228600" algn="ctr">
              <a:lnSpc>
                <a:spcPct val="10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Подсказки: угадаете ответ с первой подсказки, получите 5 баллов; 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algn="ctr">
              <a:lnSpc>
                <a:spcPct val="10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со второй – 4 балла и т. д.;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algn="ctr">
              <a:lnSpc>
                <a:spcPct val="10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с последней – 1 балл.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algn="ctr">
              <a:lnSpc>
                <a:spcPct val="10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675e47"/>
                </a:solidFill>
                <a:latin typeface="Times New Roman"/>
                <a:ea typeface="Times New Roman"/>
              </a:rPr>
              <a:t>Загадка первая 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-360" y="1844280"/>
            <a:ext cx="8459640" cy="480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6000"/>
          </a:bodyPr>
          <a:p>
            <a:pPr marL="1098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1. С 1820 – 1825 гг.. он опубликовал ряд теоретических и экспериментальных трудов по электродинамике.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1098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2. Его отец  - жирондист, исполнявший обязанности судьи при мятежниках, был казнён как сообщник аристократов.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1098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3. В 1812 преподавал физику и химию в центральной школе г. Бугре.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1098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4. Его фамилия есть в названии прибора, измеряющего силу тока.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1098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5. Название единицы силы тока.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109800" algn="ctr">
              <a:lnSpc>
                <a:spcPct val="10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32880" y="188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675e47"/>
                </a:solidFill>
                <a:latin typeface="Times New Roman"/>
                <a:ea typeface="Times New Roman"/>
              </a:rPr>
              <a:t>Ампер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72" name="Picture 5" descr=""/>
          <p:cNvPicPr/>
          <p:nvPr/>
        </p:nvPicPr>
        <p:blipFill>
          <a:blip r:embed="rId1"/>
          <a:stretch/>
        </p:blipFill>
        <p:spPr>
          <a:xfrm>
            <a:off x="2627280" y="1557360"/>
            <a:ext cx="363384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675e47"/>
                </a:solidFill>
                <a:latin typeface="Times New Roman"/>
                <a:ea typeface="Times New Roman"/>
              </a:rPr>
              <a:t>Загадка вторая 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68000" y="177300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2000"/>
          </a:bodyPr>
          <a:p>
            <a:pPr marL="1051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1.Его знания по физике были весьма скудными, но он был вынужден преподавать предмет, т. к. в США был кризис и, с работой было туго.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1051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2. Абердинский колледж присудил ему за курс физики степень магистра.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1051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3. Работал у Альберта Майкельсона – тонкого знатока физического эксперимента.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1051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4. Создал для средних школ и колледжей первые американские учебники физики.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1051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5. Определил заряд электрона, удостоен Нобелевской премии.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105120" algn="ctr">
              <a:lnSpc>
                <a:spcPct val="10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675e47"/>
                </a:solidFill>
                <a:latin typeface="Times New Roman"/>
                <a:ea typeface="Times New Roman"/>
              </a:rPr>
              <a:t>Роберт Миллекен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76" name="Picture 6" descr=""/>
          <p:cNvPicPr/>
          <p:nvPr/>
        </p:nvPicPr>
        <p:blipFill>
          <a:blip r:embed="rId1"/>
          <a:stretch/>
        </p:blipFill>
        <p:spPr>
          <a:xfrm>
            <a:off x="2916360" y="1628640"/>
            <a:ext cx="336708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675e47"/>
                </a:solidFill>
                <a:latin typeface="Times New Roman"/>
                <a:ea typeface="Times New Roman"/>
              </a:rPr>
              <a:t>Загадка третья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1144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1. Он родился в г. Ромны Полтавской губернии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1144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2. В 1901 г. для приобретения опыта в постановке эксперимента уезжает к Рентгену в г. Мюнхен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1144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3. Отец современной физики (под его руководством создаётся </a:t>
            </a:r>
            <a:r>
              <a:rPr b="0" lang="ru-RU" sz="26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Физико-технологический</a:t>
            </a: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институт)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1144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4. Им было воспитано несколько поколений российских физиков 20 века (среди них П. Капица, И. Курчатов). Он был Учителем с большой буквы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1144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5. Одновременно с Р. Милликеном определил дискретность электрического заряда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1144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440" y="1904760"/>
            <a:ext cx="7543800" cy="259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75e47"/>
                </a:solidFill>
                <a:latin typeface="Cambria"/>
              </a:rPr>
              <a:t>Урок - вечер  </a:t>
            </a:r>
            <a:br>
              <a:rPr sz="4800"/>
            </a:br>
            <a:r>
              <a:rPr b="1" lang="ru-RU" sz="4800" spc="-1" strike="noStrike">
                <a:solidFill>
                  <a:srgbClr val="675e47"/>
                </a:solidFill>
                <a:latin typeface="Cambria"/>
              </a:rPr>
              <a:t>«Учёные, учителя - физики», </a:t>
            </a:r>
            <a:br>
              <a:rPr sz="4800"/>
            </a:br>
            <a:r>
              <a:rPr b="1" lang="ru-RU" sz="4800" spc="-1" strike="noStrike">
                <a:solidFill>
                  <a:srgbClr val="675e47"/>
                </a:solidFill>
                <a:latin typeface="Cambria"/>
              </a:rPr>
              <a:t>8 класс.</a:t>
            </a:r>
            <a:br>
              <a:rPr sz="4800"/>
            </a:br>
            <a:r>
              <a:rPr b="0" lang="ru-RU" sz="6600" spc="-1" strike="noStrike">
                <a:solidFill>
                  <a:srgbClr val="675e47"/>
                </a:solidFill>
                <a:latin typeface="Cambria"/>
              </a:rPr>
              <a:t> </a:t>
            </a:r>
            <a:br>
              <a:rPr sz="6600"/>
            </a:br>
            <a:r>
              <a:rPr b="0" lang="ru-RU" sz="6600" spc="-1" strike="noStrike">
                <a:solidFill>
                  <a:srgbClr val="675e47"/>
                </a:solidFill>
                <a:latin typeface="Cambria"/>
              </a:rPr>
              <a:t> </a:t>
            </a:r>
            <a:endParaRPr b="0" lang="en-US" sz="6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85800" y="4571640"/>
            <a:ext cx="646128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e8d8c"/>
                </a:solidFill>
                <a:latin typeface="Calibri"/>
              </a:rPr>
              <a:t>Презентация Кузьминой Л. В. – учителя физики ВБСОУ ОСОШ № 1 г. Калуги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99640" y="2599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675e47"/>
                </a:solidFill>
                <a:latin typeface="Times New Roman"/>
                <a:ea typeface="Times New Roman"/>
              </a:rPr>
              <a:t>Иоффе А. Ф.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80" name="Picture 5" descr=""/>
          <p:cNvPicPr/>
          <p:nvPr/>
        </p:nvPicPr>
        <p:blipFill>
          <a:blip r:embed="rId1"/>
          <a:stretch/>
        </p:blipFill>
        <p:spPr>
          <a:xfrm>
            <a:off x="2556000" y="1600200"/>
            <a:ext cx="386856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675e47"/>
                </a:solidFill>
                <a:latin typeface="Times New Roman"/>
                <a:ea typeface="Times New Roman"/>
              </a:rPr>
              <a:t>Загадка четвёртая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178920" y="1599840"/>
            <a:ext cx="82803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11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1. Он родился 16 марта 1789 г. в  Эрлангене,  в семье потомственного слесаря.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411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2. Отец передал сыну не только знания и опыт работы с металлом, что пригодилось потом учёному при изготовлении приборов и устройств для научных исследований, но и свою настойчивость в достижении цели, работоспособность и веру в справедливость.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411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3. Проучившись три семестра в университете, он в сентябре 1806 г. стал работать учителем математики в частной школе швейцарского городка Готтштадта.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411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4. Он открыл теоретически  и подтвердил на опыте закон, выражающий связь между силой тока в цепи, напряжением и сопротивлением.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411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5. В 1881 г. на электротехническом съезде в Париже учёные единогласно утвердили название единицы сопротивления … 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00280" y="2599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675e47"/>
                </a:solidFill>
                <a:latin typeface="Times New Roman"/>
                <a:ea typeface="Times New Roman"/>
              </a:rPr>
              <a:t>Георг Ом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84" name="Picture 4" descr=""/>
          <p:cNvPicPr/>
          <p:nvPr/>
        </p:nvPicPr>
        <p:blipFill>
          <a:blip r:embed="rId1"/>
          <a:stretch/>
        </p:blipFill>
        <p:spPr>
          <a:xfrm>
            <a:off x="2843280" y="1700280"/>
            <a:ext cx="3533760" cy="474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675e47"/>
                </a:solidFill>
                <a:latin typeface="Times New Roman"/>
                <a:ea typeface="Times New Roman"/>
              </a:rPr>
              <a:t>Заключительное слово.</a:t>
            </a:r>
            <a:br>
              <a:rPr sz="4600"/>
            </a:b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114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f2b20"/>
                </a:solidFill>
                <a:latin typeface="Calibri"/>
              </a:rPr>
              <a:t>Подведение итогов.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marL="114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675e47"/>
                </a:solidFill>
                <a:latin typeface="Times New Roman"/>
                <a:ea typeface="Times New Roman"/>
              </a:rPr>
              <a:t>Литература:</a:t>
            </a:r>
            <a:br>
              <a:rPr sz="4600"/>
            </a:b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8000"/>
          </a:bodyPr>
          <a:p>
            <a:pPr marL="335880" indent="-223920">
              <a:lnSpc>
                <a:spcPct val="10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В.А. Волков, С. Е. Полянский. Поурочные разработки по физике. М.: ВАКО, 7-9 кл. 2005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35880" indent="-223920">
              <a:lnSpc>
                <a:spcPct val="10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Кубеев М. Н. Сто великих имён России.- М.: Вече, 2010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35880" indent="-223920">
              <a:lnSpc>
                <a:spcPct val="10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Иоффе А. В. О физике и физиках.- Ленинград, «Наука», 1977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35880" indent="-223920">
              <a:lnSpc>
                <a:spcPct val="10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Статья газеты «Весть» «Благодетели образования», 14 февраля 2008, четверг. №51-54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35880" indent="-223920">
              <a:lnSpc>
                <a:spcPct val="10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Пёрышкин А. В. Физика. 8 кл.: Учеб. для общеобразоват. учреждений. – 6-е изд., стереотип. – М.: Дрофа, 2004.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35880" indent="-223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4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675e47"/>
                </a:solidFill>
                <a:latin typeface="Cambria"/>
              </a:rPr>
              <a:t>Цели урока: 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2b20"/>
                </a:solidFill>
                <a:latin typeface="Calibri"/>
              </a:rPr>
              <a:t> 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114480" algn="ctr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2b20"/>
                </a:solidFill>
                <a:latin typeface="Calibri"/>
              </a:rPr>
              <a:t>Познакомить учащихся с деятельностью учёных физиков, которые в своё время работали учителями;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114480" algn="ctr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2b20"/>
                </a:solidFill>
                <a:latin typeface="Calibri"/>
              </a:rPr>
              <a:t>Показать наиболее примечательные черты их мироззрения;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114480" algn="ctr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2b20"/>
                </a:solidFill>
                <a:latin typeface="Calibri"/>
              </a:rPr>
              <a:t>Методы получения научных знаний;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114480" algn="ctr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2b20"/>
                </a:solidFill>
                <a:latin typeface="Calibri"/>
              </a:rPr>
              <a:t>Сформировать правильное представление о характере научного труда учёных.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114480" algn="ctr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675e47"/>
                </a:solidFill>
                <a:latin typeface="Times New Roman"/>
                <a:ea typeface="Times New Roman"/>
              </a:rPr>
              <a:t>Содержание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50920" y="1341000"/>
            <a:ext cx="83534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205560">
              <a:lnSpc>
                <a:spcPct val="10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1. </a:t>
            </a:r>
            <a:r>
              <a:rPr b="1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Вступительное слово учителя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08520" indent="-205560">
              <a:lnSpc>
                <a:spcPct val="10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2.  Задания для команд.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08520" indent="-205560">
              <a:lnSpc>
                <a:spcPct val="10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Задание   первое: «Найди правильную дорогу»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08520" indent="-205560">
              <a:lnSpc>
                <a:spcPct val="10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Задание  второе. Каждая команда рассказывает об учёном-учителе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08520" indent="-205560">
              <a:lnSpc>
                <a:spcPct val="10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Задание  третье – экспериментальное: «Электрическая цепь»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08520" indent="-205560">
              <a:lnSpc>
                <a:spcPct val="10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Задание  четвёртое: «Знаешь ли ты свой учебник физики?»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08520" indent="-205560">
              <a:lnSpc>
                <a:spcPct val="10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Задание  пятое: «Загадки о физиках-учителях»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08520" indent="-205560">
              <a:lnSpc>
                <a:spcPct val="10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(Ампер, Аристотель, Пёрышкин А. В., Милликен Р.,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08520" indent="-205560">
              <a:lnSpc>
                <a:spcPct val="10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Циолковский К. Э., Ломоносов М. В., Иоффе А. Ф., Попов А. С.)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08520" indent="-205560">
              <a:lnSpc>
                <a:spcPct val="10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3.Заключительное слово учителя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08520" indent="-2055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675e47"/>
                </a:solidFill>
                <a:latin typeface="Times New Roman"/>
                <a:ea typeface="Times New Roman"/>
              </a:rPr>
              <a:t> </a:t>
            </a:r>
            <a:r>
              <a:rPr b="0" lang="ru-RU" sz="4600" spc="-1" strike="noStrike">
                <a:solidFill>
                  <a:srgbClr val="675e47"/>
                </a:solidFill>
                <a:latin typeface="Times New Roman"/>
                <a:ea typeface="Times New Roman"/>
              </a:rPr>
              <a:t>Задание   первое: «Найди правильную дорогу»</a:t>
            </a:r>
            <a:br>
              <a:rPr sz="4600"/>
            </a:b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1144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В три столбика выписаны обозначения физических величин, их единицы и их названия. Необходимо стрелками соединить каждую физическую величину со своей единицей измерения и названием: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1144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675e47"/>
                </a:solidFill>
                <a:latin typeface="Times New Roman"/>
                <a:ea typeface="Times New Roman"/>
              </a:rPr>
              <a:t>Первая команда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395280" y="1600200"/>
          <a:ext cx="7682040" cy="4492800"/>
        </p:xfrm>
        <a:graphic>
          <a:graphicData uri="http://schemas.openxmlformats.org/drawingml/2006/table">
            <a:tbl>
              <a:tblPr/>
              <a:tblGrid>
                <a:gridCol w="2560680"/>
                <a:gridCol w="1832040"/>
                <a:gridCol w="3289320"/>
              </a:tblGrid>
              <a:tr h="8985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a57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a57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лощадь сечения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a57c"/>
                    </a:solidFill>
                  </a:tcPr>
                </a:tc>
              </a:tr>
              <a:tr h="8985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Время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</a:tr>
              <a:tr h="8985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Кл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Сопротивление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</a:tr>
              <a:tr h="8985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R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м²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Сила тока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</a:tr>
              <a:tr h="8985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Ом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заряд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675e47"/>
                </a:solidFill>
                <a:latin typeface="Times New Roman"/>
                <a:ea typeface="Times New Roman"/>
              </a:rPr>
              <a:t>Вторая команда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457200" y="1600200"/>
          <a:ext cx="7786800" cy="4924440"/>
        </p:xfrm>
        <a:graphic>
          <a:graphicData uri="http://schemas.openxmlformats.org/drawingml/2006/table">
            <a:tbl>
              <a:tblPr/>
              <a:tblGrid>
                <a:gridCol w="2595600"/>
                <a:gridCol w="1735200"/>
                <a:gridCol w="3456000"/>
              </a:tblGrid>
              <a:tr h="984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ρ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a57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a57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дельное сопротивление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a57c"/>
                    </a:solidFill>
                  </a:tcPr>
                </a:tc>
              </a:tr>
              <a:tr h="985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ℓ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Вт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Работа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</a:tr>
              <a:tr h="984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U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Ом*м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Мощность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</a:tr>
              <a:tr h="9860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м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Длина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</a:tr>
              <a:tr h="984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Дж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напряжение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675e47"/>
                </a:solidFill>
                <a:latin typeface="Cambria"/>
              </a:rPr>
              <a:t>Биография учёного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56" name="Picture 5" descr=""/>
          <p:cNvPicPr/>
          <p:nvPr/>
        </p:nvPicPr>
        <p:blipFill>
          <a:blip r:embed="rId1"/>
          <a:stretch/>
        </p:blipFill>
        <p:spPr>
          <a:xfrm>
            <a:off x="2987640" y="1542960"/>
            <a:ext cx="3456000" cy="491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675e47"/>
                </a:solidFill>
                <a:latin typeface="Times New Roman"/>
                <a:ea typeface="Times New Roman"/>
              </a:rPr>
              <a:t>Биография учёного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58" name="Picture 6" descr=""/>
          <p:cNvPicPr/>
          <p:nvPr/>
        </p:nvPicPr>
        <p:blipFill>
          <a:blip r:embed="rId1"/>
          <a:stretch/>
        </p:blipFill>
        <p:spPr>
          <a:xfrm>
            <a:off x="2843280" y="1484280"/>
            <a:ext cx="3529080" cy="499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1T12:46:36Z</dcterms:created>
  <dc:creator>Кузьмина</dc:creator>
  <dc:description/>
  <dc:language>en-US</dc:language>
  <cp:lastModifiedBy>Кузьмина</cp:lastModifiedBy>
  <dcterms:modified xsi:type="dcterms:W3CDTF">2014-01-11T13:38:13Z</dcterms:modified>
  <cp:revision>18</cp:revision>
  <dc:subject/>
  <dc:title>Презентация PowerPoint</dc:title>
</cp:coreProperties>
</file>